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689-0AE3-451D-A655-84F94E7A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9CE-77C5-4CD8-9A19-63A73218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01A-B28A-4345-8778-E855C485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E17-AA79-4930-BF7C-48253A87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2F829-ED57-41EE-85FD-4232C94C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92D28-4245-4028-85CC-04BD4C42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A91AC-C18F-4138-9068-D494311E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CEC65-0790-4359-85DC-3B92546C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4D379-F28F-4304-B149-AF68BBA8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8DA63-22C4-41A4-BFB4-B0E40A33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B789A-382D-4A2A-97EA-09BA31F4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FD0-7ABC-4C01-B794-4130BE8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88F4F-FB97-46B2-A12E-3D09B451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00DFA-BA8F-4E72-B3C9-615C6AA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BE386-AC26-48D0-8577-836F82F5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0CE94-A068-4712-8AC7-20C6012F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91903-387F-4122-84A6-9B40CE1B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D4A-57F2-44D3-9960-C13D5034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61D-1C5F-4CDF-81C3-E9B95918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F9F-8694-4DDA-99A7-FDDD9851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4C4-F014-4F43-93CD-DCBF62C2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B99-3F1A-4421-BCF9-EA9573F6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816-9468-4D2D-BB0C-B53266F0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F35-AB7B-4DB4-A799-DE38697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378-AA33-47BC-A1BF-35E23F1B2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462C-5D8F-4AD8-B8C3-00365F439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619280"/>
            <a:ext cx="4524480" cy="5238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keletal System – Structure and Fun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y: Alec Droussio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477120" y="4457880"/>
            <a:ext cx="266688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279864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roducing Blood Cells and Storing Chemical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roducing Blood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Red Bone Marrow inside the bones produces blood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d Blood Cells, White Blood Cells, and Platel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toring Chemical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 bone marrow ageing it changes from ‘red marrow’ to ‘yellow marrow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Yellow bone marrow is composed of adipose cells, and a few blood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is chemical change is very important for a functioning human bod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n 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e Skeletal System is one of the most important systems used in the human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t creates many types of blood cells, stores these blood cells, protects internal organs, and assists in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ithout this system it would be difficult for a human being to 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95480" y="4280040"/>
            <a:ext cx="3429000" cy="2577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67320" y="3048120"/>
            <a:ext cx="2776680" cy="3809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1752480"/>
            <a:ext cx="2857680" cy="510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334120" y="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keletal System: Main Points of Stru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ranium – Protects the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ine – Allows the transport of brainwaves through the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ibs – Protect vital organs in the To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elvis – Allows the connection of the Legs to the To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e Skeletal System is a System of 206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4120" y="4037040"/>
            <a:ext cx="3809880" cy="2820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819520" cy="3124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19920" y="0"/>
            <a:ext cx="3124080" cy="2743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ypes of Bones in the Skeletal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ng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Bones that are greater length than width and are a variable of a number of extrem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hort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“cube shaped” and have equal length and wid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lat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thin shaped bones that provide considerable mechanical protection and extensive surfaces for muscle attach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879640" cy="3124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240600" y="2362320"/>
            <a:ext cx="2903400" cy="4495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ypes of Bones in the Skeletal System (continued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Irregular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Complicated shaped bones that are shaped due to the function i.e. the Vertebr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esamoid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Bones that form in tendons where there is a considerable amount of friction, tension, and physical stress; vary from person to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utural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Very small bones located within the sutural joints between the cranial bones; vary from person to pers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2887560" cy="3276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nside of the Bo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one ma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d Marrow – consisting mainly of myeloid t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BCs, platelets, and most WBCs are developed  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Yellow Marrow – consisting mainly of fat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 WBCs develop in the yellow marr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ro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connective, functionally supportive framework of a biological cell, tissue, or or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52680" y="0"/>
            <a:ext cx="3429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781680" y="5195880"/>
            <a:ext cx="2362320" cy="16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781680" y="2895480"/>
            <a:ext cx="1435320" cy="2248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762600" y="1047600"/>
            <a:ext cx="2381400" cy="5810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unctions of the Skeletal 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.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. Pro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3.Assissitance of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4. Storage of Miner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5. Production of Blood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6. Storage of Chemical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7497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upport and Protec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keleton is the framework of the bo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t supports the softer t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t provides points of attachment for most skeletal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s mechanical protection for many of the body’s internal org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Bones reduced the risk of injury to these org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095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19720" y="331488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ssisting Movement and Storing Minera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ssisting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keletal Muscles are attached to b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en these Muscles contract they cause bones to m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toring Mine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one tissues store several types of minerals, including calcium and phospho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one releases minerals into the blood when it is nee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is facilitates the balance of minerals in the bo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8:47:04Z</dcterms:created>
  <dc:creator>Alec Droussiotis</dc:creator>
  <dc:description/>
  <dc:language>en-US</dc:language>
  <cp:lastModifiedBy>Alec Droussiotis</cp:lastModifiedBy>
  <dcterms:modified xsi:type="dcterms:W3CDTF">2010-03-14T21:45:56Z</dcterms:modified>
  <cp:revision>14</cp:revision>
  <dc:subject/>
  <dc:title>Skeletal System – Structure and Function</dc:title>
</cp:coreProperties>
</file>